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12E75-1100-4876-8974-96AC2196501A}"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1F07B-F6FE-44C1-9805-4EEC7B7C4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985680" y="741240"/>
            <a:ext cx="4886640" cy="3665520"/>
          </a:xfrm>
          <a:prstGeom prst="rect">
            <a:avLst/>
          </a:prstGeom>
          <a:ln w="0">
            <a:noFill/>
          </a:ln>
        </p:spPr>
      </p:sp>
      <p:sp>
        <p:nvSpPr>
          <p:cNvPr id="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7F788A-8514-45A8-AE35-4C3B119DC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85680" y="741240"/>
            <a:ext cx="4886640" cy="3665520"/>
          </a:xfrm>
          <a:prstGeom prst="rect">
            <a:avLst/>
          </a:prstGeom>
          <a:ln w="0">
            <a:noFill/>
          </a:ln>
        </p:spPr>
      </p:sp>
      <p:sp>
        <p:nvSpPr>
          <p:cNvPr id="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C4670-D745-4C89-8119-227C03460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985680" y="741240"/>
            <a:ext cx="4886640" cy="3665520"/>
          </a:xfrm>
          <a:prstGeom prst="rect">
            <a:avLst/>
          </a:prstGeom>
          <a:ln w="0">
            <a:noFill/>
          </a:ln>
        </p:spPr>
      </p:sp>
      <p:sp>
        <p:nvSpPr>
          <p:cNvPr id="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6F831-95CA-4616-8556-4CE9A998B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85680" y="741240"/>
            <a:ext cx="4886640" cy="3665520"/>
          </a:xfrm>
          <a:prstGeom prst="rect">
            <a:avLst/>
          </a:prstGeom>
          <a:ln w="0">
            <a:noFill/>
          </a:ln>
        </p:spPr>
      </p:sp>
      <p:sp>
        <p:nvSpPr>
          <p:cNvPr id="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2AAF25-E005-47AA-BA2C-E8F4458FB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85680" y="741240"/>
            <a:ext cx="4886640" cy="3665520"/>
          </a:xfrm>
          <a:prstGeom prst="rect">
            <a:avLst/>
          </a:prstGeom>
          <a:ln w="0">
            <a:noFill/>
          </a:ln>
        </p:spPr>
      </p:sp>
      <p:sp>
        <p:nvSpPr>
          <p:cNvPr id="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34B2A-04AA-49CE-920F-C9A0602DD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85680" y="741240"/>
            <a:ext cx="4886640" cy="3665520"/>
          </a:xfrm>
          <a:prstGeom prst="rect">
            <a:avLst/>
          </a:prstGeom>
          <a:ln w="0">
            <a:noFill/>
          </a:ln>
        </p:spPr>
      </p:sp>
      <p:sp>
        <p:nvSpPr>
          <p:cNvPr id="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005A7-717A-4419-A2CA-B2336291F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985680" y="741240"/>
            <a:ext cx="4886640" cy="3665520"/>
          </a:xfrm>
          <a:prstGeom prst="rect">
            <a:avLst/>
          </a:prstGeom>
          <a:ln w="0">
            <a:noFill/>
          </a:ln>
        </p:spPr>
      </p:sp>
      <p:sp>
        <p:nvSpPr>
          <p:cNvPr id="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2F87A-EC90-489C-82F4-843EFE844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85680" y="741240"/>
            <a:ext cx="4886640" cy="3665520"/>
          </a:xfrm>
          <a:prstGeom prst="rect">
            <a:avLst/>
          </a:prstGeom>
          <a:ln w="0">
            <a:noFill/>
          </a:ln>
        </p:spPr>
      </p:sp>
      <p:sp>
        <p:nvSpPr>
          <p:cNvPr id="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07E87-F83F-4026-9EE8-56AEF99A6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985680" y="741240"/>
            <a:ext cx="4886640" cy="3665520"/>
          </a:xfrm>
          <a:prstGeom prst="rect">
            <a:avLst/>
          </a:prstGeom>
          <a:ln w="0">
            <a:noFill/>
          </a:ln>
        </p:spPr>
      </p:sp>
      <p:sp>
        <p:nvSpPr>
          <p:cNvPr id="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F582DD-2531-449C-ADC8-18EFC187D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85680" y="741240"/>
            <a:ext cx="4886640" cy="3665520"/>
          </a:xfrm>
          <a:prstGeom prst="rect">
            <a:avLst/>
          </a:prstGeom>
          <a:ln w="0">
            <a:noFill/>
          </a:ln>
        </p:spPr>
      </p:sp>
      <p:sp>
        <p:nvSpPr>
          <p:cNvPr id="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451F8-FDAB-4AC1-91F4-3935F209A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985680" y="741240"/>
            <a:ext cx="4886640" cy="3665520"/>
          </a:xfrm>
          <a:prstGeom prst="rect">
            <a:avLst/>
          </a:prstGeom>
          <a:ln w="0">
            <a:noFill/>
          </a:ln>
        </p:spPr>
      </p:sp>
      <p:sp>
        <p:nvSpPr>
          <p:cNvPr id="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914B1-E168-4A81-82CB-6F6C4DB16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9D58F-7912-4328-84CB-1819A53DB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D181B8-FA13-46A6-9643-E0D63D339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59BC3-5DD9-4CF9-8F5A-52E8E9ECB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985680" y="741240"/>
            <a:ext cx="4886640" cy="3665520"/>
          </a:xfrm>
          <a:prstGeom prst="rect">
            <a:avLst/>
          </a:prstGeom>
          <a:ln w="0">
            <a:noFill/>
          </a:ln>
        </p:spPr>
      </p:sp>
      <p:sp>
        <p:nvSpPr>
          <p:cNvPr id="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E91052-7AE9-4B8A-ADA6-752F97341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985680" y="741240"/>
            <a:ext cx="4886640" cy="3665520"/>
          </a:xfrm>
          <a:prstGeom prst="rect">
            <a:avLst/>
          </a:prstGeom>
          <a:ln w="0">
            <a:noFill/>
          </a:ln>
        </p:spPr>
      </p:sp>
      <p:sp>
        <p:nvSpPr>
          <p:cNvPr id="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5E4AB-2BB0-48DF-A42B-B86171127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985680" y="741240"/>
            <a:ext cx="4886640" cy="3665520"/>
          </a:xfrm>
          <a:prstGeom prst="rect">
            <a:avLst/>
          </a:prstGeom>
          <a:ln w="0">
            <a:noFill/>
          </a:ln>
        </p:spPr>
      </p:sp>
      <p:sp>
        <p:nvSpPr>
          <p:cNvPr id="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0FF2E0-30E4-4F54-9505-B3BA111DE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985680" y="741240"/>
            <a:ext cx="4886640" cy="3665520"/>
          </a:xfrm>
          <a:prstGeom prst="rect">
            <a:avLst/>
          </a:prstGeom>
          <a:ln w="0">
            <a:noFill/>
          </a:ln>
        </p:spPr>
      </p:sp>
      <p:sp>
        <p:nvSpPr>
          <p:cNvPr id="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9813E-369A-4C47-92BE-C4A651EC4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985680" y="741240"/>
            <a:ext cx="4886640" cy="3665520"/>
          </a:xfrm>
          <a:prstGeom prst="rect">
            <a:avLst/>
          </a:prstGeom>
          <a:ln w="0">
            <a:noFill/>
          </a:ln>
        </p:spPr>
      </p:sp>
      <p:sp>
        <p:nvSpPr>
          <p:cNvPr id="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7FDF5-0268-44E0-912E-F4A25382E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985680" y="741240"/>
            <a:ext cx="4886640" cy="3665520"/>
          </a:xfrm>
          <a:prstGeom prst="rect">
            <a:avLst/>
          </a:prstGeom>
          <a:ln w="0">
            <a:noFill/>
          </a:ln>
        </p:spPr>
      </p:sp>
      <p:sp>
        <p:nvSpPr>
          <p:cNvPr id="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7AA37-57BD-4758-B3D6-A0BECFCE8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985680" y="741240"/>
            <a:ext cx="4886640" cy="3665520"/>
          </a:xfrm>
          <a:prstGeom prst="rect">
            <a:avLst/>
          </a:prstGeom>
          <a:ln w="0">
            <a:noFill/>
          </a:ln>
        </p:spPr>
      </p:sp>
      <p:sp>
        <p:nvSpPr>
          <p:cNvPr id="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2416C-336E-4FB6-B296-3DA38E639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30999EA-EE28-4D26-A108-D948EB99AF7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D5A9C0D-ED16-424F-9214-92BE5E261C7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469ADA61-4413-408F-A20B-8B801F76B44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5A7C6002-8712-41F9-8994-DF9D5D4375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2C0AE57-AE8C-46A8-8D7D-D735B5890A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8D8C861-1930-440E-9345-7CC7A560020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A79107A-533D-49D5-9255-54BD457B232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11F6201-193D-49D9-B4AE-C918B01BECC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6A8397CA-A5C6-4DD8-835D-B32AE277E14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2601C4A2-9276-45DA-94FF-BC03E385508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71D7946-5FD3-4300-8231-A11A39AD1E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6419A6F-DDF5-4C7D-A530-EC2DB8F1341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C82F2FB-EAE9-4A59-8E22-7F4ED0B5D77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BFD0BAD-63AD-4392-B0D6-3D2B0192C06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F4D41B3-7646-48F6-8CF1-62EB2BDF4FE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1F32D65A-CBAB-44C0-9C75-CB45194BE50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91B6C00-A4F7-4CC3-BB2B-C43F349C2CD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9845255-2856-48BF-8104-6EFF8566408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E28E571-C4DB-47EE-A96C-23AECE82E46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5D38BCE-F8B5-4CAF-B729-A4F1BA0038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6858661-6406-4F0B-8FDB-97DCF67DB03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2545596A-7C15-41BE-9852-CAD5A58BA6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F3EF9FB-82D4-4DCB-97E1-A9E491C8D09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E0358D0-8698-4BF0-86B2-9FB3C1BD7A7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7EB8FB6-22FB-4621-95F6-9CE6138EE9C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3218C28-FC2D-4588-B894-644802B7A4F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A6B6871-E43B-4040-9B88-00373634771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04FF51C-AC21-4617-B30C-A2435AF69D8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8A6637DC-E229-4CBE-992F-B5079C253FA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9A041B7-0DFE-4BC7-948A-5220B74C761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5E038D1-6F9A-4B12-899F-2F611AA1CE1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DB6916C-EC55-424C-9317-05291376CB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E48DE40-69B6-4112-A2B0-963C308215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C27A0C-7523-483C-BC7E-717504CC049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8C14A86-63C9-4F1E-82D3-093CEB3C228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19297EEB-083A-4FDF-875C-01AAB87AF5C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3168B7A4-707A-4BDA-9669-8C612B9642E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9DB5524-D9FA-4489-BB56-37214EC2D82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DE350FC-1BDA-4FCD-BFE4-A5558A98AF0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107A068-2B97-442A-8D9B-B3DADEDFB50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A5BB300-D069-4A9B-ACBE-26F57C4DF4E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8369BCC-EC80-4601-9A30-7152F67FB0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86A07FC3-C51B-4B9D-89C2-8EE7337D303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FEF6E84-120E-43B7-96AC-9A6945CB5B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DBC24B6-96EC-4118-982F-D1C9DDAE2AB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F78017D-2DAA-4494-B310-CA8DDFCA3D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1C15A89-B892-4E5A-A7D2-326F9CABFC0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8AA782F-BF42-4F9F-925D-D479E744969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B5BA1456-DE15-4E7F-96BB-B054AD194CE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6FD94862-FA21-45FA-8CB0-EEDBB96FC84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751521B-4E5E-4612-8B8A-E1DFB591F27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4E95504-D245-4EFF-ADA6-5E75D831A9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584800D-1A24-496D-8FD4-C42811414A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A74EC61-6833-44E7-9BDE-EADC772E6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D9CB6835-30B4-44CC-A9F5-5D4B63E1A6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41DBF69-861B-4120-84A0-9C541763839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27E1C949-6002-49CB-BDEE-752E1F19BF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2A1F180-8F83-43C3-A4E8-628FE4C14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242B30C-18CD-4FFD-931F-E387228604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20ADCA6-C467-4981-923A-09CEE16E42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570EF2E-2889-408B-A227-F52219202B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FB63C11-3F4B-491B-AD8E-C79DD8356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0F20C99B-E40D-48EA-BC4C-B18BBACD602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7AC2662-0EFD-4403-8710-DBDD5B6202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F7441E2-DFEF-44D2-9551-1D69ADA785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B513711-59C6-489C-9154-50FDA09C93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2A715D7-93A5-4D07-8FBF-4C31B787B4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4046711-854F-4452-8612-88B39A11EF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0FFA7BD-14A9-4614-8FDA-64EFCCDA59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9F21412-3B57-452A-BD8F-C818C33593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895CD6C-3981-46B0-A939-B576AFEEFC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C446F88-3634-4031-9498-64C4D07A42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A80FC6C-6698-463B-AA78-EEBC8F72B2F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7AFF06-805A-4A3F-8097-B5EF2353C7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0A3DD2-19C2-4575-970F-4FD9338F22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A6E300-1471-487E-9D39-531A7696BF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ECD333E-A4E0-44FF-B36A-72833742B7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6D9901-6934-4FE2-BF5B-34800F4086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C64FF0F-ECC0-4E0A-A036-D1CC9A37620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3255AA3-279B-40FF-BA3F-52A8AC1618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2AA1037-0D0D-48D6-B50E-BAFD6ED042C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125FA93-9F5A-4327-B78D-5F91CD843D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5E77BA9-6371-429B-9628-DE1FF5C013A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2DDD6B5-FCFE-45C2-BD6D-4D1906BD5C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D9FC8CB-918D-491E-BC13-E1AD026AE0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43E8047D-BDBC-4CC9-99BA-5C78130D32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EF74CD-456F-40F8-9C9B-2E2D06D64B3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654C9BB-26E7-49E9-B571-51077038837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B7A9B53-9E33-4ED2-9D75-EF1365D812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71A7D40-FBB0-4F17-A13A-45A17AD1297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2E4A10C-9978-41AE-AFAC-85A8A100CB0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FC11CC3C-43DA-47FF-9DFF-2485B380B43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5C26C1FF-4C6F-4CDD-8CD4-3D60BF9ED0D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35A56D4-AABC-4276-BAB8-1221871BF7A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E4DDD5B-7FBE-48ED-84C1-46994E0F8B6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0F92DCB-170B-4D8E-8DA0-7A228F079E9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27E3194-1449-4866-B789-B2A8AB27AB7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12025FDC-D2ED-4464-A323-49795A6EEAB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6A8AC162-2C1B-4621-AA88-EB6DEC9483A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F0EA4A8-CF3F-4206-B3A2-0B3E1789A8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3B3AEFB5-FC51-4CF1-9DC4-15A9C9FB0D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2A996CD-BF6C-40F5-BAD4-5AC8C55E14D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DB0BD54-F0C3-428C-AD4D-4631B717704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50E1D50-348D-481C-BF52-501B7FE6093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373670E-EDAB-4C0C-9633-17D419C02EE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F2FB42C5-4B82-4ED9-9B11-9B6227A48D5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4603C01-63DC-4531-BB95-3FB12EFDA8A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ABC71B8-5D2F-4D22-BE0A-A0F77F7256A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2A6F3B0-7350-493C-BDCA-395D40B8605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91A9B33-BF41-4C63-9D6A-86436635837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8917EDB-B701-4B82-BB3C-BA2C27F11A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9855080-D0CD-44B4-B280-23967101DF0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B3CB559-12C8-4FFF-B950-C36D58FCD9C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4E3C79D-C56A-476B-B978-62D2F04013A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07FBC45-CCF7-427F-8F6D-9DA7C268FF2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E5E6545-9CE6-437F-9BFC-639321828AE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466689E-8142-4B3D-8431-24D9280F2F1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7AE7B1A3-C104-4EA5-A025-858D3B3AF78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F22CC565-47DE-4102-A738-E3712D5A63A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BD92ED0-E524-4FC4-B44D-B37A7AA309F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558558E-E3C2-4A83-84A1-A2937FFF96F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201C69B-4DE3-4E67-9455-7C63B839A1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4BDCDD2-001D-4803-8B44-1BE9F173261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9589E65-5574-4891-940E-498593FC49D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9294ABF7-2B9B-4C5B-9C00-341B77E7A6D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357D95EC-18B7-40F3-BEAF-C9D7968ACBE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A86DA4B-1DE8-4F10-80D4-7529D7605B2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DE4BA60-C098-4A4C-ABF8-EFE14B9BCAD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F91AD13-ECFC-41F5-BBF8-5CC0708F919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ABA0954-F572-48FE-AF05-97F603C1760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96E5C1D7-B85F-4787-B54B-871C9434C8C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EB5531EE-1E9E-4893-8D21-D035FCC7E62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8ED1118-519C-4FE6-9AD5-4CE7772C32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4C85DC3-E3BA-4F1B-956B-BF3CD13AC9F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68D4198-C5E1-42CA-B0B6-1E69157D5B8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3811B86-741E-41C5-878A-24784279565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C9986F7-37FA-47A9-A90E-35C5C486370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693488A-8A74-4869-8EB6-885DE267EE3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6017F73-ADDE-4877-A92A-1773EA69528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BC3C225-1230-46B1-A9A3-A52954C3BF6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D033F87-917E-4229-A4C1-01ECC1E44BE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0697141-2DAA-4AAF-A98A-5138D88E8FB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D2B627F-3CEC-4346-AD2E-3E2AC0B7B6D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098DACE-7962-4BC5-AFC8-D801102739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0FA690D-2D6A-432A-9967-836F044D921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708655F1-4AC6-4D9A-A4E9-C3DEF269818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CCC0E3B-92C6-417E-80EE-6D30951423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C5A56B8-3D75-42FD-98D7-BC8AB0F78FE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01FE9B7-270D-406F-8277-4A44694CD61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FEDB699-3A49-4F45-9074-0D5099759EF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20895B2-918F-4C90-A7BF-246160F50E9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ECC8320E-20DB-4054-A441-C59313F5332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8C71470-F4C1-4837-B3B4-0138E5EC13D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FFDA644-04F2-44FB-B0B0-4D3855E1200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60F1967-7177-4D2D-8589-44AFC6A426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BD9EF-B191-4D40-A0B0-7886948D87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CF1DC-A5A7-47A0-8103-E83908B13A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0F4BC-58CF-4538-9D64-D88F7BD449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3C823-36EA-4BA9-B959-B09A55FEC2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FD7C2-B57E-4C3E-8072-EB898717D83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2129E-DC43-47C6-8D9F-E7D7F9A196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29DCE-98DD-4DA6-9407-5C65FA6484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D1DF0-B8A4-47E2-A0D9-99388609B8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0C59F-D7E4-40D2-A3F7-52F73287CC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B5C03-4520-49DF-A01C-9AFA13D8F6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E1E8A-5DD8-4289-8329-2CE0308F25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34835-5680-45BE-9E1C-79335BCBFB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6FEFD-0194-4EA6-B495-E42AF82DA33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39640" y="981000"/>
            <a:ext cx="820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539640" y="981000"/>
            <a:ext cx="820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357120" y="1268280"/>
            <a:ext cx="84297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39" name="" descr=""/>
          <p:cNvPicPr/>
          <p:nvPr/>
        </p:nvPicPr>
        <p:blipFill>
          <a:blip r:embed="rId1"/>
          <a:stretch/>
        </p:blipFill>
        <p:spPr>
          <a:xfrm>
            <a:off x="0" y="0"/>
            <a:ext cx="9144000" cy="1368360"/>
          </a:xfrm>
          <a:prstGeom prst="rect">
            <a:avLst/>
          </a:prstGeom>
          <a:ln w="0">
            <a:noFill/>
          </a:ln>
        </p:spPr>
      </p:pic>
      <p:pic>
        <p:nvPicPr>
          <p:cNvPr id="740" name="" descr=""/>
          <p:cNvPicPr/>
          <p:nvPr/>
        </p:nvPicPr>
        <p:blipFill>
          <a:blip r:embed="rId2"/>
          <a:stretch/>
        </p:blipFill>
        <p:spPr>
          <a:xfrm>
            <a:off x="1258920" y="2060640"/>
            <a:ext cx="1297080" cy="1528560"/>
          </a:xfrm>
          <a:prstGeom prst="rect">
            <a:avLst/>
          </a:prstGeom>
          <a:ln w="0">
            <a:noFill/>
          </a:ln>
        </p:spPr>
      </p:pic>
      <p:pic>
        <p:nvPicPr>
          <p:cNvPr id="741" name="" descr=""/>
          <p:cNvPicPr/>
          <p:nvPr/>
        </p:nvPicPr>
        <p:blipFill>
          <a:blip r:embed="rId3"/>
          <a:stretch/>
        </p:blipFill>
        <p:spPr>
          <a:xfrm>
            <a:off x="6948360" y="1989000"/>
            <a:ext cx="1444680" cy="1573200"/>
          </a:xfrm>
          <a:prstGeom prst="rect">
            <a:avLst/>
          </a:prstGeom>
          <a:ln w="0">
            <a:noFill/>
          </a:ln>
        </p:spPr>
      </p:pic>
      <p:sp>
        <p:nvSpPr>
          <p:cNvPr id="742"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268280"/>
            <a:ext cx="874872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559" name=""/>
          <p:cNvGrpSpPr/>
          <p:nvPr/>
        </p:nvGrpSpPr>
        <p:grpSpPr>
          <a:xfrm>
            <a:off x="0" y="306360"/>
            <a:ext cx="9140760" cy="6548400"/>
            <a:chOff x="0" y="306360"/>
            <a:chExt cx="9140760" cy="6548400"/>
          </a:xfrm>
        </p:grpSpPr>
        <p:grpSp>
          <p:nvGrpSpPr>
            <p:cNvPr id="560" name=""/>
            <p:cNvGrpSpPr/>
            <p:nvPr/>
          </p:nvGrpSpPr>
          <p:grpSpPr>
            <a:xfrm>
              <a:off x="0" y="306360"/>
              <a:ext cx="9140760" cy="6548400"/>
              <a:chOff x="0" y="306360"/>
              <a:chExt cx="9140760" cy="6548400"/>
            </a:xfrm>
          </p:grpSpPr>
          <p:sp>
            <p:nvSpPr>
              <p:cNvPr id="561" name=""/>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268280"/>
            <a:ext cx="874872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000000"/>
              </a:solidFill>
              <a:latin typeface="Times New Roman"/>
            </a:endParaRPr>
          </a:p>
        </p:txBody>
      </p:sp>
      <p:grpSp>
        <p:nvGrpSpPr>
          <p:cNvPr id="568" name=""/>
          <p:cNvGrpSpPr/>
          <p:nvPr/>
        </p:nvGrpSpPr>
        <p:grpSpPr>
          <a:xfrm>
            <a:off x="0" y="306360"/>
            <a:ext cx="9140760" cy="6548400"/>
            <a:chOff x="0" y="306360"/>
            <a:chExt cx="9140760" cy="6548400"/>
          </a:xfrm>
        </p:grpSpPr>
        <p:grpSp>
          <p:nvGrpSpPr>
            <p:cNvPr id="569" name=""/>
            <p:cNvGrpSpPr/>
            <p:nvPr/>
          </p:nvGrpSpPr>
          <p:grpSpPr>
            <a:xfrm>
              <a:off x="0" y="306360"/>
              <a:ext cx="9140760" cy="6548400"/>
              <a:chOff x="0" y="306360"/>
              <a:chExt cx="9140760" cy="6548400"/>
            </a:xfrm>
          </p:grpSpPr>
          <p:sp>
            <p:nvSpPr>
              <p:cNvPr id="570" name=""/>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413000"/>
            <a:ext cx="75960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51Z</dcterms:modified>
  <cp:revision>154</cp:revision>
  <dc:subject/>
  <dc:title>Παρουσίαση του PowerPoint</dc:title>
</cp:coreProperties>
</file>